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9F8-37DE-48F2-A3DB-7FEDB497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185-7CF5-446C-985A-B59F286E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18D-C4FC-4EB1-B820-AB1B9048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7FA-CD62-44C0-BC19-4851B385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3085-71A0-44E8-B66A-8E1D5C41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83AC-603B-48DD-ABFC-02486665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1B5C-AA1E-41D1-BF73-845707F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2C36-7CBF-43D8-892C-DAECEB66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C986-4FDE-4E1F-96BB-709298A9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CEA1-384E-4627-9BD1-B5FA2CE7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C7D3-5B96-4861-94C5-F7255BE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F32-1139-47A1-AA34-599ABC66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CA3F-515F-4B00-BBB7-89C34EA3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EFA1-DB64-4BE1-8CED-41EDFD10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1CE3-3E43-49B5-A47C-BD772662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B716-589C-419B-BEB3-405E0979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826C-0B37-4AF1-A030-F8C08CA1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3076-16A2-48EB-A492-E2B93EEB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6D07-20BD-4241-829E-19E8EA31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08F4-E61C-4D9D-A775-988B5817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3D0B6-1D56-44C5-8A83-20C2D65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EF7E-D1C0-4B44-A390-CC5858D4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757-6344-42FF-9655-F68E57DD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9901-4F14-4515-878F-7E3FDAEC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5A42-0CDA-4122-8187-7BE9B409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031A-2B60-4209-A55D-941EC15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1E76-A208-455D-9EAB-4259C43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D310-4210-4343-9F1B-422A29F5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EA67B-E58A-4306-A7AE-878F01D3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CDE1-630E-4C26-90D5-9B0E5B30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BD2E1-D680-4A69-B5F7-E36030D4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B2947A-CDD9-496B-9B26-850693B4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EE76A-E777-4EA8-AF8F-588E2121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AA9-48F5-4E17-A26B-803E4DA3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ACDC0-2009-4BDF-B1F4-F4FFF22F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52A39-AB7D-4E42-86BB-F257060C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E6E37-2DE4-4E6A-AB4C-EBD36400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63DB4-0CC4-45DB-A104-D03F64ED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2C565-E0FE-47D7-8DB7-498993FA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05D2A-3E4A-4933-A042-D3CA62F5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95344-720D-4AD7-96F3-9EA6FA07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6B976-FB59-4106-BA78-4D20A0A3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D2248-F604-4A3B-9EBB-EF0825FF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AF0-CD67-47C9-A5F0-3FDF0A9F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A25-619D-4B6A-9C09-4FBE6049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822-ECC9-4084-ABFB-67B00196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5D8-79DA-4101-AB80-4DF1099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464-D5DD-4259-A708-73CE614F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E1E2-0D8B-4AE1-8F2F-69DF3FD789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0A97-FEA3-4B28-B97B-D3C6E2C118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64D2-BDB6-4E22-A6A9-B10AB2F63E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E2D5-A0E0-4F13-A9B0-4236241249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536400" y="-244440"/>
            <a:ext cx="8047080" cy="35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9640" y="4247640"/>
            <a:ext cx="7855200" cy="1644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етр Давы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My_love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62080" y="689040"/>
            <a:ext cx="4249440" cy="4187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Надежда\Desktop\день матери\оригинал.jpg"/>
          <p:cNvPicPr/>
          <p:nvPr/>
        </p:nvPicPr>
        <p:blipFill>
          <a:blip r:embed="rId2"/>
          <a:stretch/>
        </p:blipFill>
        <p:spPr>
          <a:xfrm>
            <a:off x="4427640" y="-119160"/>
            <a:ext cx="4716360" cy="697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299"/>
          <p:cNvPicPr/>
          <p:nvPr/>
        </p:nvPicPr>
        <p:blipFill>
          <a:blip r:embed="rId1"/>
          <a:srcRect l="-483" t="15674" r="0" b="0"/>
          <a:stretch/>
        </p:blipFill>
        <p:spPr>
          <a:xfrm>
            <a:off x="826920" y="189000"/>
            <a:ext cx="7777440" cy="5221080"/>
          </a:xfrm>
          <a:prstGeom prst="rect">
            <a:avLst/>
          </a:prstGeom>
          <a:ln w="0">
            <a:noFill/>
          </a:ln>
        </p:spPr>
      </p:pic>
      <p:pic>
        <p:nvPicPr>
          <p:cNvPr id="185" name="Заголовок 3" descr=""/>
          <p:cNvPicPr/>
          <p:nvPr/>
        </p:nvPicPr>
        <p:blipFill>
          <a:blip r:embed="rId2"/>
          <a:stretch/>
        </p:blipFill>
        <p:spPr>
          <a:xfrm>
            <a:off x="1773360" y="5187960"/>
            <a:ext cx="7121520" cy="1670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db2910a95872"/>
          <p:cNvPicPr/>
          <p:nvPr/>
        </p:nvPicPr>
        <p:blipFill>
          <a:blip r:embed="rId1"/>
          <a:stretch/>
        </p:blipFill>
        <p:spPr>
          <a:xfrm>
            <a:off x="395280" y="-3240"/>
            <a:ext cx="8317080" cy="6861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7340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Monotype Corsiva"/>
              </a:rPr>
              <a:t>Письма были, только очень редко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3" descr=""/>
          <p:cNvPicPr/>
          <p:nvPr/>
        </p:nvPicPr>
        <p:blipFill>
          <a:blip r:embed="rId1"/>
          <a:stretch/>
        </p:blipFill>
        <p:spPr>
          <a:xfrm>
            <a:off x="1755720" y="5913360"/>
            <a:ext cx="7388280" cy="658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67353017_0c7e9483fd4f20a91e9c495a929_prev"/>
          <p:cNvPicPr/>
          <p:nvPr/>
        </p:nvPicPr>
        <p:blipFill>
          <a:blip r:embed="rId2"/>
          <a:stretch/>
        </p:blipFill>
        <p:spPr>
          <a:xfrm>
            <a:off x="395280" y="115920"/>
            <a:ext cx="8424720" cy="559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3" descr=""/>
          <p:cNvPicPr/>
          <p:nvPr/>
        </p:nvPicPr>
        <p:blipFill>
          <a:blip r:embed="rId1"/>
          <a:stretch/>
        </p:blipFill>
        <p:spPr>
          <a:xfrm>
            <a:off x="85680" y="0"/>
            <a:ext cx="3413160" cy="4584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Users\Надежда\Desktop\день матери\73874525_e80505b3e196818d1c929a21be190dbc_big.jpg"/>
          <p:cNvPicPr/>
          <p:nvPr/>
        </p:nvPicPr>
        <p:blipFill>
          <a:blip r:embed="rId2"/>
          <a:stretch/>
        </p:blipFill>
        <p:spPr>
          <a:xfrm>
            <a:off x="3568680" y="0"/>
            <a:ext cx="5575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9"/>
          <p:cNvPicPr/>
          <p:nvPr/>
        </p:nvPicPr>
        <p:blipFill>
          <a:blip r:embed="rId1"/>
          <a:stretch/>
        </p:blipFill>
        <p:spPr>
          <a:xfrm>
            <a:off x="2268360" y="0"/>
            <a:ext cx="440532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Заголовок 3" descr=""/>
          <p:cNvPicPr/>
          <p:nvPr/>
        </p:nvPicPr>
        <p:blipFill>
          <a:blip r:embed="rId2"/>
          <a:stretch/>
        </p:blipFill>
        <p:spPr>
          <a:xfrm>
            <a:off x="1444680" y="5084640"/>
            <a:ext cx="769932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awd6"/>
          <p:cNvPicPr/>
          <p:nvPr/>
        </p:nvPicPr>
        <p:blipFill>
          <a:blip r:embed="rId1"/>
          <a:stretch/>
        </p:blipFill>
        <p:spPr>
          <a:xfrm>
            <a:off x="395280" y="189000"/>
            <a:ext cx="8459640" cy="5640480"/>
          </a:xfrm>
          <a:prstGeom prst="rect">
            <a:avLst/>
          </a:prstGeom>
          <a:ln w="0">
            <a:noFill/>
          </a:ln>
        </p:spPr>
      </p:pic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2651040" y="5614920"/>
            <a:ext cx="660888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91bc74a8492f"/>
          <p:cNvPicPr/>
          <p:nvPr/>
        </p:nvPicPr>
        <p:blipFill>
          <a:blip r:embed="rId1"/>
          <a:stretch/>
        </p:blipFill>
        <p:spPr>
          <a:xfrm>
            <a:off x="2484360" y="620640"/>
            <a:ext cx="3489480" cy="465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16_1"/>
          <p:cNvPicPr/>
          <p:nvPr/>
        </p:nvPicPr>
        <p:blipFill>
          <a:blip r:embed="rId2"/>
          <a:stretch/>
        </p:blipFill>
        <p:spPr>
          <a:xfrm>
            <a:off x="2340000" y="0"/>
            <a:ext cx="420048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Заголовок 1" descr=""/>
          <p:cNvPicPr/>
          <p:nvPr/>
        </p:nvPicPr>
        <p:blipFill>
          <a:blip r:embed="rId3"/>
          <a:stretch/>
        </p:blipFill>
        <p:spPr>
          <a:xfrm>
            <a:off x="176040" y="5072040"/>
            <a:ext cx="859644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33095812_post197211182265535"/>
          <p:cNvPicPr/>
          <p:nvPr/>
        </p:nvPicPr>
        <p:blipFill>
          <a:blip r:embed="rId1"/>
          <a:srcRect l="0" t="0" r="23" b="4080"/>
          <a:stretch/>
        </p:blipFill>
        <p:spPr>
          <a:xfrm>
            <a:off x="0" y="15840"/>
            <a:ext cx="8569440" cy="6842160"/>
          </a:xfrm>
          <a:prstGeom prst="rect">
            <a:avLst/>
          </a:prstGeom>
          <a:ln w="0">
            <a:noFill/>
          </a:ln>
        </p:spPr>
      </p:pic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5010120" y="2743200"/>
            <a:ext cx="4133880" cy="23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9:15:49Z</dcterms:created>
  <dc:creator>Надежда</dc:creator>
  <dc:description/>
  <dc:language>en-US</dc:language>
  <cp:lastModifiedBy>Надежда</cp:lastModifiedBy>
  <dcterms:modified xsi:type="dcterms:W3CDTF">2011-11-22T06:58:04Z</dcterms:modified>
  <cp:revision>13</cp:revision>
  <dc:subject/>
  <dc:title>Приезжайте  к ним!!!</dc:title>
</cp:coreProperties>
</file>