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105-0363-4E7D-975D-50AEBC7E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C08-5929-457A-96E1-11D42C54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BDB-2760-482A-82D1-80BCD7FC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5CA-A52F-4F04-BEDA-46A1FCE3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469-831C-4D44-940C-D23C61A1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A057-F2F2-4784-9094-EF91CFF4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B1A2-63E5-44AB-9A9F-E7E4F01B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D310-FE6A-49E9-92E9-CCBE4B4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6090-AB22-4EEC-81BD-600A6BC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9184-8455-4446-81AE-52FC95F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D926-DD76-40EF-BD4E-F1A8009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741-3A62-4453-A689-46D3FB14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4A73-4AFB-46F7-807C-3E69B92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E5B9-275F-4386-AF6A-44699BD9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0C96-DCB7-44B9-9666-ED7918A9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2BF5-44CA-458B-94A6-A17849B2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8775-DDD5-494F-A76E-CC4BF654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06F2-89E8-4749-8E9C-56DE5867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EE97-3A34-42F8-92CD-EBDCEF7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2030-BC86-4F6E-A4EB-11AF4B08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D420-3A78-4191-B8A4-4CFECE12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0C33-FB2B-479F-AC11-1188664B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F5A-4C4A-4892-9DC7-C72212FF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27DF-3B35-4649-8AC1-8ADCED7C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D928-BCFF-433C-A633-4F9FA9A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6457-5CCC-4FDB-9B4F-193F02AC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EC39-21F7-40B6-8B7C-0DF1818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3B62-C9DD-49EE-AAF0-06D3C618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EDB8-C389-4BCC-A618-5D012BCC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092A-6EAD-4C5A-8233-FA089F20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5DA0-CE1C-4769-9893-4732688A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B3E6-3E51-4A38-8057-DC64A00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8707-8E1F-4E11-9D82-50F9097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921-C174-4718-884A-B5A7CEA6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5A7B-C863-47EC-BE56-4EDA9DB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1938-519B-41D7-89E6-F3B134FE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B9B9-9788-4EA3-AFA0-B40E65D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2CB8-2D59-43E6-AEF1-0A8C9C2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7E4A-79E2-40BB-8E99-40D49416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23AA-6433-43F5-9071-6822C5E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DFDE-1680-4165-AFF8-79E990D6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A58A-6712-4035-9C0E-3313D256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D7AF-5543-46ED-9E37-254938A8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06C2-4A6E-4E29-B589-D7BE4FE8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6F0-9139-4CBD-9B36-28AB318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4871-F4A7-40B4-8B10-E84E8F5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8F30-E071-4BA8-92DE-AD6AFE98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C572-BCA7-4B10-9355-109D6136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1470-58DB-497A-A30E-00D5944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EBDB-2214-4DCE-B9FD-AF6A745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59D3-CA90-4E6F-850F-B111A60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1503-9DA0-4034-B584-B2162A3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4FBC-0AB0-4455-8AAA-5909FAD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42DF-DCFD-477D-B110-2BFEAA65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2479-3630-4923-B5C7-1E745F88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8B8-C0AB-4DDE-A2DE-5DF0B95E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E76D5-454F-428B-91B8-175CF84B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A21C-3540-4A85-90F8-381BFA25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6F03-2CD8-41A8-873F-559F9568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29B9-1CDE-4138-995F-67AE5E3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12322-3B88-44E9-89B1-354C917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41F98-7577-4A6A-8F65-51FBAA21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3E6CC-1B98-4547-9745-17CA9458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E1573-E9D1-45B4-BABE-E5FEB03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F0F8-3861-461E-B074-AE705F46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85F7-4419-4470-9202-CB483E7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61B-494F-4026-B080-8FF26F7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6B18-5235-45CE-93EB-B87A5B7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64E4-1756-4B17-84F7-1691D49A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10EE-D4C6-4B7F-A240-61CFFD75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8F8D-FD0A-43BC-B240-A3C5D73B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093B9-2C47-40C5-AD65-C4E858F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F5D2-D53F-442E-9FEE-B5B55FBD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6F31-0551-46AE-8BBA-E2648CFE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0941-3B24-427F-BE31-A2E753A6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805D4-2744-478C-9EFA-B37C2790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9A9E-B77D-4C25-9A57-86802F3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EB7-C607-4966-B2E0-ECD2638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B3349-7D8B-461B-8473-21F4909C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00D6A-DFBE-46C1-B3E9-8D0C5D2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0421B-C881-44D5-B539-A7388089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2D7E-BC1B-455B-A97B-99BBC62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EDAA-62E3-471D-A636-82C60AE3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FD2-7894-4880-9241-737035E4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3797-CC82-44ED-8316-3B0031099DA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1F17-2E21-42BE-87D6-09794E8F0B3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DF09-4588-4B55-AE88-002CC33CEC0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CA8A-FFF5-4630-82BB-5D3DBA44A18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B77A-85BA-4F03-9C43-05A8F60235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90C5-52F1-4F1C-BFBC-0F2B5BD41A9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677A-B918-427F-950E-52DF571F24E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249120" y="2036880"/>
            <a:ext cx="8609040" cy="275436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3"/>
          <p:cNvSpPr/>
          <p:nvPr/>
        </p:nvSpPr>
        <p:spPr>
          <a:xfrm>
            <a:off x="214200" y="6072120"/>
            <a:ext cx="492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Автор презентации: учитель биологии МОУ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с. Чаадаевка Н. С. Кузнецо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" descr=""/>
          <p:cNvPicPr/>
          <p:nvPr/>
        </p:nvPicPr>
        <p:blipFill>
          <a:blip r:embed="rId2"/>
          <a:stretch/>
        </p:blipFill>
        <p:spPr>
          <a:xfrm>
            <a:off x="4357800" y="3286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26" name="Заголовок 3" descr=""/>
          <p:cNvPicPr/>
          <p:nvPr/>
        </p:nvPicPr>
        <p:blipFill>
          <a:blip r:embed="rId3"/>
          <a:stretch/>
        </p:blipFill>
        <p:spPr>
          <a:xfrm>
            <a:off x="4925880" y="262080"/>
            <a:ext cx="3584880" cy="1170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5428800"/>
            <a:ext cx="347184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Личные вещи Евгения Родионов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7" descr=""/>
          <p:cNvPicPr/>
          <p:nvPr/>
        </p:nvPicPr>
        <p:blipFill>
          <a:blip r:embed="rId2"/>
          <a:stretch/>
        </p:blipFill>
        <p:spPr>
          <a:xfrm>
            <a:off x="2857680" y="857160"/>
            <a:ext cx="3714480" cy="45007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8" descr=""/>
          <p:cNvPicPr/>
          <p:nvPr/>
        </p:nvPicPr>
        <p:blipFill>
          <a:blip r:embed="rId3"/>
          <a:stretch/>
        </p:blipFill>
        <p:spPr>
          <a:xfrm>
            <a:off x="6929280" y="0"/>
            <a:ext cx="2214720" cy="30718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9"/>
          <p:cNvSpPr/>
          <p:nvPr/>
        </p:nvSpPr>
        <p:spPr>
          <a:xfrm>
            <a:off x="2286000" y="5500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усская Православная церковь причислила Евгения Родионова  к лику свя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785880" y="285840"/>
            <a:ext cx="7643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Евгений Родионов не предал ни мать, ни Родину, ни Христа. Если есть такие люди на нашей земле, значит Русь не погибла и не погибнет до скончания веков. В русском человеке генетически заложены основы Православной Веры, христианской морали, нравственности. И спасибо этому молодому человеку, который за всех нас пострадал и показал, что мы можем жить и побеждать только Ве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1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4214880" cy="60008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2"/>
          <p:cNvSpPr/>
          <p:nvPr/>
        </p:nvSpPr>
        <p:spPr>
          <a:xfrm>
            <a:off x="5143680" y="642960"/>
            <a:ext cx="3357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 1996 году, в светлый и радостный праздник Вознесения Господня трагически оборвались молодые жизни солдат Евгения Родионова и его товарищей Александра, Андрея и Игоря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6286680" y="1214280"/>
            <a:ext cx="23572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Евгений Родионов родился 23 мая 1977 г. В 1995 году его призвали в армию, после учебного подразделения направили на пограничную заставу на границе Чечни и Ингушетии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rcRect l="0" t="4964" r="663" b="0"/>
          <a:stretch/>
        </p:blipFill>
        <p:spPr>
          <a:xfrm>
            <a:off x="0" y="0"/>
            <a:ext cx="5715000" cy="410040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2"/>
          <p:cNvSpPr/>
          <p:nvPr/>
        </p:nvSpPr>
        <p:spPr>
          <a:xfrm>
            <a:off x="5715000" y="357120"/>
            <a:ext cx="342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имой 1996 года рядовой пограничник Родионов начал нести службу на Ингушской заставе. Совсем рядом находилась граница с Чечней. Вместе с другими солдатами Евгений нес службу на контрольном пункте. Блокпост был абсолютно не оборудован: ни света, ни связи, ни огневой поддержки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Евгений и его товарищи – Андрей, Александр и Игорь – старались не допустить провоза оружия и боеприпасов для боеви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214200" y="4000680"/>
            <a:ext cx="5786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Ежедневно через пункт проезжала подозрительная машина. В одну из ночей машина остановилась и из нее выскочили несколько вооруженных бандитов. Завязалась неравная борьба. Спустя некоторое время машина уехала в сторону Чечни, увозя в плен молодых солдат. Лишь истоптанный снег и застывшие пятна крови молчаливо рассказывали о той недолгой, но упорной борьбе ребят с напавшими на них боеви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2"/>
          <p:cNvSpPr/>
          <p:nvPr/>
        </p:nvSpPr>
        <p:spPr>
          <a:xfrm>
            <a:off x="428760" y="285840"/>
            <a:ext cx="8286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Так начался мученический путь Евгения и его товарищей. Сто дней и ночей проведут узники в чеченском плену в местечке Бамут. Их ежедневно избивали, пытали, подвешивая на дыбе – палке, прикрепленной к потолку холодного подвала. Все это время их почти не кормили, морили голодом. Стены сырого темного подвала и бетонный пол почернели от крови несчастных пленников, которые мужественно все терпели... Вскоре не осталось пыток, которые не испробовали чеченские изверги на юных солдатах. Потом ребят заставляли отречься от Православной веры и принять мусульманство, обещая отпустить пленников на свободу. Но избитые, голодные, измученные бесконечными издевательствами, юные воины не предали Веру и Церков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/>
          <p:cNvSpPr/>
          <p:nvPr/>
        </p:nvSpPr>
        <p:spPr>
          <a:xfrm>
            <a:off x="5572080" y="10717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Это произошло 23 мая 1996 года, в день Вознесения Господня и в день рождения самого Евгения, ему исполнилось 19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Рисунок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5286600" cy="46432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4"/>
          <p:cNvSpPr/>
          <p:nvPr/>
        </p:nvSpPr>
        <p:spPr>
          <a:xfrm>
            <a:off x="214200" y="492912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«Здесь лежит русский солдат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вгений Родионов,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защищавший Отечество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и не отрекшийся от Христа,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казненный под Бамутом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23 мая 1996 го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6072120" y="342900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реди неприметного сельского кладбища стоит большой крест, на котором начерт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4929120" cy="621504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2"/>
          <p:cNvSpPr/>
          <p:nvPr/>
        </p:nvSpPr>
        <p:spPr>
          <a:xfrm>
            <a:off x="5429160" y="642960"/>
            <a:ext cx="328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рошли годы со дня гибели рядового Евгения Родионова и его боевых друзей, но память их навсегда останется жи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214200" y="4857840"/>
            <a:ext cx="8429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На могилу мученика Евгения-воина едут с Поволжья, Санкт-Петербурга, Чувашии, Украины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Его любят солдаты, его помощи просят в тюрьмах и там, где трудно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А участники прошлых войн снимают с груди боевые ордена и кладут ему на могилу – как герою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786720" cy="4429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572000" cy="37864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" descr=""/>
          <p:cNvPicPr/>
          <p:nvPr/>
        </p:nvPicPr>
        <p:blipFill>
          <a:blip r:embed="rId2"/>
          <a:stretch/>
        </p:blipFill>
        <p:spPr>
          <a:xfrm>
            <a:off x="4786200" y="357192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3"/>
          <p:cNvSpPr/>
          <p:nvPr/>
        </p:nvSpPr>
        <p:spPr>
          <a:xfrm>
            <a:off x="214200" y="428616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Его открыли при 4 школе города Кузнецка в субботу, 25 сентябр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5072040" y="42876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а родине, в городе Кузнецке, поставлен памятник русскому герою, кавалеру ордена мужества Евгению Родионо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7:13:06Z</dcterms:created>
  <dc:creator>Admin</dc:creator>
  <dc:description/>
  <dc:language>en-US</dc:language>
  <cp:lastModifiedBy>Admin</cp:lastModifiedBy>
  <dcterms:modified xsi:type="dcterms:W3CDTF">2010-12-10T15:06:14Z</dcterms:modified>
  <cp:revision>8</cp:revision>
  <dc:subject/>
  <dc:title>Герой России.</dc:title>
</cp:coreProperties>
</file>